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A91-815C-46FD-9706-51A5DFAB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B92-E2C1-4815-B5ED-ABBAE91E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C4523-4C07-4580-8BA1-E2AA3E01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AE435-37B5-4FE1-BEC4-416B999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CE22A-BE0C-45C5-9F33-606F076F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2980A-E7F7-43C1-AE95-1E45FF9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B9E44-A653-4006-9A40-DC7453B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4AEC7-22BD-44C8-8487-407903D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8639D-7899-4DBE-B7F8-3EE29EB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B2714-2F45-47C1-89A9-56376FE6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75609-FCA1-4004-B67E-9E02EA7C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69E68-33E1-4D2F-B156-D3F178B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0FC-2C57-4625-97CA-6377496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2142E-8A94-44A0-B975-DD3574F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87731-41B9-4EAC-8BBB-29F35A1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47236-E06D-4C03-89AC-11EE555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FC286-4320-4C7D-9EDD-26D7F95A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2AD90-6F95-49DC-8E66-FF8D6EC4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88C69-3539-475F-8105-47AD60A8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4AB49-7B63-40CA-ABFB-29037B1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495BD-26AF-4E6D-91D3-BB19377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67F35-60BD-437B-9172-2493C14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36098-CF1F-41CD-BCF7-917218D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AE3-357C-4846-B5EE-E0FF62F9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279EB-C1A7-413F-A125-E3AE335D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53E5C9-96B0-4A0D-B1A0-C70214DE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693068-363A-4C48-9324-454FBBA5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8F60E1-43CC-4DEC-83D1-38701713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28B4CD-3B0E-4206-9CE2-10953A4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B52A92-A0D7-461F-ADEC-B3B7F26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587D18-2A8D-41AA-B6A3-0D816AD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2693C9-5B0C-4E20-A408-1FEB48B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E0563F-4E0E-43F6-B571-AF9BB3C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D37B06-2644-44CE-B714-956D585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D77F7E-2F46-4C20-AF4A-29F612F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2974C9-7100-4BAB-B5FA-57EFC68C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2CE980-FBCF-48DF-812D-86D08C9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79569-0D25-44E1-979F-33AE80F9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C6963-319D-422C-B15F-86F581C2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B46BC-211D-4451-8125-15CA090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DF4FC-55F8-473D-92FE-3F542B79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26530-F980-4717-BAB9-509A9083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4797-040D-4950-AECB-70B075A3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E096F-730B-4E56-B480-8B5C44C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70E83-A614-488C-8E1A-29F9BB1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AEF50-D6BA-466B-9844-F4ED25F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61734-691A-4698-8809-29028102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20B43-DCEE-4519-ACF5-8B780762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9951A-57BD-4664-8DD7-BB95A01A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823999-D2E6-41BA-AE18-D555BDDE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A26C83-405C-459A-85ED-1AA3562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5C5677-E47C-4E41-B2FE-BAC3C160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4FE5B7-4C66-4378-9D7F-BABD196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C4DABD-AC10-437A-B96D-04D3865B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3411FE-2D6E-4EF6-BBE3-32B77D8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AE9ABA-CFFD-45CF-AA9E-BF968C3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455123-8BCC-4DAD-9202-2EB2283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C26F3C-F675-48C8-BCB9-D003BD8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693703-9947-48DC-B815-7D4FF61C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78B823-69D3-4BBD-802B-54579680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F65CC8-9B68-42C8-917E-C4723E83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36CBE-E2F4-46C8-B025-CB1401ED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71F29-DD27-4D76-A5E1-6C7AF06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8090E-D75E-4E8C-97B4-DEB63773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D1CF2-3E17-4A53-98B7-2F014C3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9DBAF-FA30-4DEE-A299-CF7C669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3BB54-140D-480A-8A61-D068792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F2CA1-1E50-49A3-B588-3E08ADD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1DE4E-536B-43CF-8D0A-9835456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890D8-16CE-4F60-8E14-5D4A9AC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0F4F2-41CE-47F0-96DB-EA0BBBA3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E023F-2A37-4CDF-AB79-91915BAE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1BE27-9AD9-41BF-B102-5699083B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60722-8F85-44DF-B63B-DF818DAB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BD5F0-F5FD-4692-AD4B-2EC9055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D539F-030E-4F9B-AC2E-50F27C55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31D7C-A89A-4750-B92E-63C14D64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DF33D-D8D5-4F83-B2BC-4476EB0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03CA9-0D92-46F6-B198-51C7164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09A56-27E5-4526-AB16-A1D81C3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24D3E-1C95-429B-A898-8D8D68B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61566-9A81-45CF-BBA8-E14F0B5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437A8-7491-4EBB-9DC1-D05B9D80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4191D-783A-443E-904B-72AF0EF2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670EF-DF5A-443D-9B68-9247F5A8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F36BE-4397-49C2-BC38-7680F41E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74E80-570B-4528-A91A-BBB80420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A0E2D-1E23-4AE9-B787-34A0AD2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83F55-F3B3-44AB-8999-4A8DF13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BFE1A-3B6D-454D-BE59-B56ACC94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20B19-488F-47F6-BD6D-B9A161A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C34CA-29F3-4F84-BD29-27CB7AC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F0A-F408-4296-B972-2E15E08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0801E-4E6C-402D-A5BA-9F7A37F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E2511-EE48-4CCA-8633-F5D2E1E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AAC48-5EA4-454C-A7B2-C25B7C9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01692-A6A7-4F1C-99F9-404AE255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C6341-8B80-4837-AF71-F023E2A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399BB-E2B7-41FC-878D-384E6E7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602AD-AA7D-4FB5-8056-4B34D5F3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5A471-910F-429D-B219-12C2A06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D43C3-8D87-4AB4-A3BF-6577F9A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739CB-CC5B-43AF-9CFB-C49E8357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A789E-A2A9-4464-A197-87EC47E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FA123-2E48-4C56-8635-F8CF4DA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647F7-72CD-445F-BF9E-173444D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6D0C7-5E85-40F6-B4A1-BF3CD2E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75CA7-C8A6-4F85-91A1-13E5A22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2F1A5-1BCD-4C8F-845B-B069609A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5F12E-1511-4DE3-AE53-C2E56C85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BB9BFF-E6DB-44D7-9889-5F65D95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4D30E-F323-4390-BBE1-EC58911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117A2-7A6A-4867-A7E9-600E1B5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D37C0-E445-4EE3-9C07-EADA6FF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A58F9-B7E5-4057-9D40-ADC6E364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BD2E1-B62E-4FC3-88B2-2353A50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FE218-8D43-4B45-95E2-FC92897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E2288-E852-408E-84C6-6C1C4960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6742F-298B-4F45-BF93-3CCC8FF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A8D37-BFA1-4F2F-ADEA-5C36548C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2A327-9E66-402F-B9D8-3DE6B249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F6B11-BB35-4C71-AD85-4C18F4B3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81F8B-8BC5-42C3-9D10-A5BA86A6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6F777-4E81-4972-9333-F4D8FFD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03BC8-1DCA-4A7E-9DBD-55589119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6A069-71D2-43BB-9FA9-2C9F86FF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2D1BF-52B4-48CC-A46E-23B55B5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92736-FFB4-4003-BC42-A596DCA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4A5DA-947F-40DF-B5E4-9BCE71A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E73EC-C15D-4E60-91C5-7D68124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F7A72-27AE-4314-B53A-696D671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A94C0-8962-4FA8-B195-59FEB0C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3B684-C841-49AC-8574-7D6BA522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AFA9C-A4E8-4E19-97FC-72FF8525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FB718-ECC8-4A39-8691-98AAAF8B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1416E-1976-434A-A660-64C7887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9DC5D-61D4-4A28-AEA8-4FDA20D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18B63-4149-4F5E-B065-D420865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0233C3-13E2-4643-8028-43CB17A9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5FED2-1916-43BC-AD98-1CA3DFC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6A0F4-083E-4870-8710-A1D60BC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676E4-1A38-4B87-82AA-8E90AD9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91521-3FCF-47DE-8067-4100793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2A822-B6B4-4881-9240-17DA1BD6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DB2F4-B2AF-406A-A5E3-422A1B5B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0B93D-3C84-4BB0-AEB7-105A58AC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BD3E8-D2ED-4505-B0BE-27ADCF76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808BB-C662-4163-8ABF-A865D0DF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755D3-2856-442A-86B3-FC940F04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379E8-4A6F-4E4B-BDF8-8A656320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6DDCC-B68C-4A66-925A-C2E7C01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0DB-A4DC-4496-8BA3-640C63A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105E5-1A12-4677-A993-F3A21327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1CAFD-06C9-49C3-B831-8894A23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4866F-6010-44A8-8E37-AA35E2E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D81A-6394-42E6-9EAF-286B9B0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E6AFF-E1EF-4975-B5FD-CD8A7A7A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3C3C4-7203-4749-A30C-A2468F26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8AD2C-5FC7-4D6E-ADE6-62BCF5C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BD5A1-5303-478E-A5A6-C66DE4B8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1D20E-D579-423C-9A5C-19C5E65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5794E-20F6-4A5C-A134-41B9BBD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B2B-90DC-42D4-B0B8-91ABD76A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AFA5C-BC85-4FE8-8576-AB838F2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B37EE-EFC1-412A-A149-E616E62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4EC19-19D3-42E0-9966-8D57418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3C21B-EC67-48DB-A4F5-8899B4F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C4C25-6F66-4C07-92BD-33AD2CE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E539A-2301-4C42-910B-8B3C1B7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348C8-D71C-457F-90D3-8744232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86EC5-B6C9-4B5E-869A-5F4875E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4C16D-2B78-409E-8B0C-A3FF2755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F9A-E2D2-47F8-8A31-CE60A0A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F45-1A38-4DB7-8936-B1BC492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BBA13-4AE4-43B5-B872-A45E4F6E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62FDB-EB77-4B84-9A09-01EDA84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683A8-01B4-47D6-8DD6-AF1E0A4E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37321-6733-4CB3-A640-AE5D7E24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BCAFA-E27A-4138-B1AC-BA27690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AC09D-98DB-487D-9561-73020483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0EB68-0712-4673-B2B4-56B5ED3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F6F88-FED7-4F16-81B8-ECFECE1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93273-20D3-48F6-B689-136DEF0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393-A91F-4B73-82F9-8975487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FE816-3329-438A-8D36-01EA171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D498A-1BEE-4D1D-8D41-DE9864DE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E4126-0C93-48F7-8E57-C35B5C5B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4F91A-9637-42AD-8021-8AF18981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85E5E5-14BF-4964-B4E9-0A4264C8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F2B07-FCB9-4AA7-9BF4-1081DDD1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0DCE93-76F8-499D-A1CE-6E1A419D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A8D49D-B195-4BCF-ACEE-E468B4C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CFCB1-8C0B-4D92-B2E3-CB46A2B0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2E8501-8B24-42BB-9245-EFD587F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B43-0496-4989-9F18-578A277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41365-E442-4280-9E82-6BAFE3A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5F0DF-1D04-449B-A588-7941CCD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5AFEE-FDCD-4C43-8968-4DCC5D7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F729C5-BB44-4F04-88F3-FF7DD688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E975AB-3DA0-4F9C-AA3C-D17BF802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43E68-9486-407C-BCF6-5217BC3F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32780-2C4F-413E-9824-2C3CA5DB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4E30E6-5535-4116-A55B-150248D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1DF2B-0884-4B2B-B592-372D45D3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B451BE-4629-41E2-B28F-C2077D0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B94-338E-481B-91D2-AFB60BDF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7CDF2-9563-455E-B8A1-BA7134E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2A6C5-8DCB-46EC-B542-E7CD1B1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1FE96-7D14-499A-B339-F7B7483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45E1C-2A28-4A5D-855B-678A992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C41B33-A8FD-41CA-8251-77A7822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23EE3-4872-48A9-920C-2DE7A307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DEC1D-7EBC-4040-9513-D61EADCD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67C6B-0A98-482F-A062-66200BBF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92448-45FA-4726-96CD-D42C3B4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C6893-E032-466A-96EB-7937149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9DEF9-4AC9-4431-A2C9-B1E304090C9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E84A6-1E83-4C0F-92EB-C2898A201A0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D8A41-8975-406E-A29E-2061065FD16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D06EF-8838-46CD-9169-63BB55CD0D5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02E3D-5C9B-430A-9A21-46932F1B9AC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671C6-1887-4806-B2CE-1880ECD400A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4B237-E2BF-4C96-8B57-D5206EB613E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9B747-9E20-4903-82C3-7ABBAFFD2F6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54B43-34E0-4B1A-8853-26DDD803A65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29D6C-625B-445A-B5DE-63BB0B1B0A1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932C3-7F9D-4A1F-B0BD-1922E7874F2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D9C27-E4D2-4FCB-9CC7-165E5E2A938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BC890-8BCE-44DB-8785-165D2AE83A0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CA6AB-4F5D-44F9-9040-290D41D177B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FC4D6-4A27-421C-9D62-3434E928103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57CE8-1F48-47AF-80DD-BD7CEEBAB30D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5E539-A482-4D30-8654-ED15725ACC1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677F6-503F-4AE3-8A4F-A3B2F1B457ED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FFF59-3F86-4A79-B3EC-655E714729A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9DD7B-3C41-45B6-A772-D7737DF4BDD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B2875-6458-4AFA-9BF9-EDE92A22168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4DDDE-5AEE-4E03-B883-32A3E42D5AE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44D0F-E0FE-4D9B-8E3E-2C6D6E84A5A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C5F61-442C-4551-8FCC-EE8CCFBDDED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DF7BA-5FC0-4AEB-8BCE-AFC8301FD52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A4307-5CA8-4447-873E-95AC63AD828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D2A5A-CD93-4CF8-932B-2E2B2E6BD77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0D17F-00D4-40B0-A803-AFD25592B45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0AE37-3EC3-43B0-8636-1BCBFA3B4A1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F27D8-E8CA-43B4-BE9A-74A4FCF3CB9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ED555-47FD-4AFF-A089-DE64CBF3CA3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8BF09-66CB-47F1-8B99-3228B1B7DB1A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E548-43C2-4FD3-AC88-737FBEDC0CF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98DA2-769F-4F1F-AF4F-03BEEC3CD48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9BB43-5C3B-4E54-9DC6-B18A29BAA77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0C35D-4CEC-4877-BAB0-F67257C6B08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069AA-A73D-4FF1-AAC3-0C9D95B7241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DCD82-4C13-4BAE-9CE4-BA9430242CD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9E7A2-C9A0-4F99-A62A-2AC15C67502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Rockwell"/>
              </a:rPr>
              <a:t>Poetic Term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lliter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repetition of initial consonant sounds in close succession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have stood still and stopped the sound of feet 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hen far away an interrupted cry 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ame over houses from another street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- from Robert Frost’s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Acquainted with the Nigh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ssonan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ated vowel sounds in a sequence of words or lines for special effec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rom the molten-golden notes,  And an in tune,  What a liquid ditty float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–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ro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The Bells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by Edgar Allan Po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sonan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tition of the same consonant two or more times in short succession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itter patter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ll mammals named Sam are clammy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llus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reference to a literary or historic person or subjec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has the same views as Diana, the moon goddess.” Taken from the modern text of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Romeo and Julie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yperbo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an extreme exaggeration in a statement or figure of speech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Her head was the size of the world!”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Rockwell"/>
              </a:rPr>
              <a:t>I am so hungry I could eat a horse”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45" name="Picture 5" descr="http://rds.yahoo.com/_ylt=A0WTb_wR3blLmjQAUEGjzbkF/SIG=12bl9t8uo/EXP=1270558353/**http%3a/www.webdesign.org/img_articles/9545/horse_29.jpg"/>
          <p:cNvPicPr/>
          <p:nvPr/>
        </p:nvPicPr>
        <p:blipFill>
          <a:blip r:embed="rId1"/>
          <a:stretch/>
        </p:blipFill>
        <p:spPr>
          <a:xfrm>
            <a:off x="4505400" y="2286000"/>
            <a:ext cx="35528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Onomatopoei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use of words that sound like their meani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unch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Ooz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zzle!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Ba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Zip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peti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aying a line or word over and over again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mother I need your blackness now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s the august earth needs rain.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- take from Audre Lorde’s poe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From the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House of Yemanja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anz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group of lines in a poem that are written in a bunch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aken from Kimiko Hahn’s poem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Daughter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though I’m oldest I can’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the one who pai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r speaks grandmother’s langu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ike a picture-bride marri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o a still life: a plat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f oranges, plums and grap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ree Vers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lines that do not rhyme or have a rhythmic pattern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 May Be Dreaming, But Wouldn't It Be Great If..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 were a genius who could get straight As in school without having to do any homework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My parents let me eat dessert first and then anything else wanted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My little sister moved to an island off the coast of Madagascar and I never heard from her again, except on my birthdays, when she'd send me a card with money in it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 …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Instead of making me go to Sunday school, my parents would take me and my girlfriend to the amusement park, where I could practice the Golden Rule on the roller coaster by holding her hand whenever she got scared.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i="1" lang="en-US" sz="1600" spc="-1" strike="noStrike">
                <a:solidFill>
                  <a:srgbClr val="595959"/>
                </a:solidFill>
                <a:latin typeface="Rockwell"/>
              </a:rPr>
              <a:t>By: Bruce Lansky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Blank Vers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gular meter but no rhyme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(most commonly thought of as iambic pentameter with no rhyme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ut,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of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wha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ligh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rough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yo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wi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w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break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east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Jul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e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u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-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ris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fai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u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kill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en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vious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moon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,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o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is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l-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read-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y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ick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nd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pal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with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grief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a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thou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her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maid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art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far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more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fair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than </a:t>
            </a:r>
            <a:r>
              <a:rPr b="0" i="1" lang="en-US" sz="2000" spc="-1" strike="noStrike">
                <a:solidFill>
                  <a:srgbClr val="595959"/>
                </a:solidFill>
                <a:latin typeface="Rockwell"/>
              </a:rPr>
              <a:t>she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ct 2,Sc. 2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repetition of sound in accented syllables that appear in similar positions in lines of poetry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4" name="Picture 3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129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yric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line of poetry that can be put to music in a song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merica the Beautiful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 beautiful for spacious skies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 amber waves of grain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 purple mountain majes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bove the fruited plai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merica! America!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od shed His grace on thee,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nd crown thy good with brotherhoo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rom sea to shining sea!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main idea around which a poem is written.  The lesson a poem hopes to teach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on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Writer’s attitude towards the subject and audienc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Sweet is my hope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Pure is the life of my hope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With my sweet hope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try to reach the higher worlds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With my pure hope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try to fathom my inner worlds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But alas,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n neither way do I succeed.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fail,</a:t>
            </a:r>
            <a:br>
              <a:rPr sz="1800"/>
            </a:br>
            <a:r>
              <a:rPr b="0" i="1" lang="en-US" sz="1800" spc="-1" strike="noStrike">
                <a:solidFill>
                  <a:srgbClr val="595959"/>
                </a:solidFill>
                <a:latin typeface="Rockwell"/>
              </a:rPr>
              <a:t>I miserably fail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thm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pattern of beats in a line of poetry or in a series of lin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ambic pentameter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He jests at scars that never felt a wound.”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He JESTS at SCARS that NEVer FELT a WOUND.”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hyme Sc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pattern of rhym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"I cannot go to school today," Said little Peggy Ann McKay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"I have the measles and the mumps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A gash, a rash and purple bumps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y mouth is wet, my throat is dry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'm going blind in my right eye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y tonsils are as big as rocks,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've counted sixteen chicken pox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igurative Language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igurative language is a word or phrase that departs from everyday literal language for the sake of comparison, emphasis, clarity, or freshnes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tools used to create imagery – ex: simile, metaphor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etaph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makes a direct comparison </a:t>
            </a:r>
            <a:r>
              <a:rPr b="1" lang="en-US" sz="2400" spc="-1" strike="noStrike">
                <a:solidFill>
                  <a:srgbClr val="595959"/>
                </a:solidFill>
                <a:latin typeface="Rockwell"/>
              </a:rPr>
              <a:t>without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the use of the words “like” or “a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e is the sun in my sky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ime is a thief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5229360" y="3079800"/>
            <a:ext cx="34574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imil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makes a direct comparison using the words “like” or “as”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His stare was as fierce as fire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danced like an angel”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4400640" y="2779560"/>
            <a:ext cx="3657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ersonific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 figure of speech that gives objects or animals human characteristic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But the child is watching the teakettle’s small hard tears dance like mad on the hot black stove” – from Elizabeth Bishop’s </a:t>
            </a:r>
            <a:r>
              <a:rPr b="0" i="1" lang="en-US" sz="2400" spc="-1" strike="noStrike">
                <a:solidFill>
                  <a:srgbClr val="595959"/>
                </a:solidFill>
                <a:latin typeface="Rockwell"/>
              </a:rPr>
              <a:t>Sestina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0" name="Picture 3" descr=""/>
          <p:cNvPicPr/>
          <p:nvPr/>
        </p:nvPicPr>
        <p:blipFill>
          <a:blip r:embed="rId1"/>
          <a:stretch/>
        </p:blipFill>
        <p:spPr>
          <a:xfrm>
            <a:off x="6404040" y="4648320"/>
            <a:ext cx="16509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magery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Formation of mental images using descriptive language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ictures in your min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took a walk around the world to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ase my troubled mind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left my body laying somewhere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n the sands of time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watched the world float to the dark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ide of the moon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 feel there is nothing I can do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--"Kryptonite" by Three Doors Dow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0:51:26Z</dcterms:created>
  <dc:creator>Katherine Dorn</dc:creator>
  <dc:description/>
  <dc:language>en-US</dc:language>
  <cp:lastModifiedBy> </cp:lastModifiedBy>
  <dcterms:modified xsi:type="dcterms:W3CDTF">2010-04-05T17:49:54Z</dcterms:modified>
  <cp:revision>21</cp:revision>
  <dc:subject/>
  <dc:title>Poetic Terms</dc:title>
</cp:coreProperties>
</file>